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4158-5544-4F38-88A1-E6B071A2B7BE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B64B-2B17-48FB-A1D9-62A90D5D975E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90E5-426C-46A8-BB19-1FCC9978FFB6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081D-7FF6-451E-829B-3DF86E5FFEEE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0ACC-813D-4860-88A6-38DC05BA5C8F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CD44-DFB7-4F88-8BD5-774FCE8E43C3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EBA7-A61F-4C23-8AC2-465BD48B1901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C86C-F1D7-4581-832A-2B6E594ABD4F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3658-BF05-4B5A-B7AE-FC07B764A461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56F4-0B1B-4E26-A7F6-4AEF594EC267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9C65-0CC1-4B67-9F13-082EF91CE958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B324-1449-4179-A98B-5497DADC5487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34C6-2A7F-4298-9CA0-9BBE7F17DA92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E3EB-F8D9-48B7-9221-D8D4EF7339A9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8C54-284B-415C-B3F4-02FCD7B9988C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1107-7F4D-47EA-965C-A84A40ACB154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C7A6-EAD2-4D2B-BAE2-E04A3A2FA93A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819A-F59F-49F9-96D8-EFAC430D46C9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53B9-478F-44B3-9A6D-6BC5C34D3368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7F0C-48C5-4131-AA09-44B88F2C4D20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81F4-DAEB-4F2B-9FE3-CB0570ADE105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8981-C3DB-4CE9-B4A7-86EB0F58596A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5735-8887-468E-9600-A1E7945FDD95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C441-EEC0-4A8A-AC64-8B6651ADC04A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A1B0-B102-4CD0-8D03-C90B6F4326FF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570C-C031-41B1-8660-A47F93A4E3E7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3A4F-C9E8-4BF0-9688-04D7DB3C4920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A21B-AD58-47C8-9C0D-6C045806B836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F876-446C-4507-A1EA-FE413F68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851-AF2C-408D-9138-2871130D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E58-4036-45CE-8E55-30DDBC40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37C-B2AD-412F-B6B5-03698D4C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DAD1-386B-4147-999B-A46345DB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4985-9B7B-448E-8AA3-3F468DCE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9EDB-73B1-443A-AFDD-9ED63B81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FE6A-C672-4FE4-A5D3-28974C9E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150C-9B50-41BF-B6AE-DBF63382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23C5-8455-41C0-87AB-C8D1F520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1831-99C7-4265-BDE5-B23218DD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B30-9D55-4413-AADC-29A35AB9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E9F1-50FD-4DB7-B004-1A36E711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DE95-5D00-48B4-A26A-F5393F0C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830A-EC31-4D43-8C62-EF00AD37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2163-970A-4791-A713-E6114328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9FF2-2385-40B2-A40B-5685AB0C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EEAFE-A188-4B8F-92C8-75C38665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5D11E-6E23-40BC-AE65-41CF187A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89AC3-50C2-43F6-8862-7AA4F1A7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C9330-3C3C-479B-8A4C-D928C918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2CA29-FC64-4D9C-B134-E474EAE2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C74-37AB-422F-987B-FF9C6BEE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85F15-DFF1-4501-BBAB-304357A5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A1C9F-0CB2-4EEB-8858-A3F458FC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BF80B-812B-4D7E-8411-22A83FF7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A1964-4C93-4457-883E-07644059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81467-9C05-44F0-B8FE-096BCA4C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11DAB-AD73-4737-AE77-84E3DB90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3D053-E5D0-4541-BC29-21619327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A891C-F4FA-435A-A919-067BC99E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BC691-0051-412B-93FF-8B3F4E8B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7B20E-F57A-4589-AEC6-4C20BA6E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D1D-DA84-4937-BBCD-A154E94E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A0065-1264-44BE-BCDD-89D4162F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C3FB2-DA64-4A06-ADFB-F78BEC28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C8216-2E6B-4A5F-9843-43F4B353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54C5F-AEC9-44B7-8F1B-886B8CA4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028B6-D24D-43C1-B7C9-86DDC346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FEA8A-1E8A-4C08-A9B8-F7BE3E89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52B9E-3A38-445C-963D-D83DFE17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CEB09-ADF7-4568-87E5-3C0EC0A0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4B461-3A30-4726-90E0-CB46D341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43D-9600-4AD2-9869-F5E0B076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DA3-8F44-4549-8303-C16835BA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807-387B-4095-A04D-96BAD099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7DA-9C87-49C7-87D4-180DF22B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2E3-E3CB-4A82-A4C2-54F98D40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0AED-35EE-42F1-83B9-4B79CFC6BB23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5366-8016-4940-9BB3-1539575B6CCB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F1A6-0C7A-402C-B329-0B9AD9C8ADE4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9B4F-9369-44AC-B26E-E454F6D30962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기술적 합리성은 </a:t>
            </a:r>
            <a:br>
              <a:rPr sz="4400"/>
            </a:b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인간과 환경을 닦달하는가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현대 기술과 공학의 철학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9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9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하이데거의 문제 인식과 그 해결책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탈은폐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알레테이아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의 두 가지 방식 중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포에이시스는 긍정적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닦달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(Ge-stell)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은 부정적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닦달은 왜 위험한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모든 존재의 의미를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한낱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’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부품으로 축소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더 근원적인 탈은폐에로 귀의하여 더 원초적 진리의 부름을 경험할 수도 있는 기회를 놓쳐 버릴 수 있다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어떻게 해결할 수 있는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포에이시스 방식으로 돌아가야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탈은폐 활동의 하나인 예술에 희망이 있음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통제와 지배에서 경탄으로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비판적 검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존재의 의미가 그 기능에 의해 주어지는 것이 문제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비행기와 같은 인공물은 어쩔 수 없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연물의 경우에는 문제가 될 수 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예컨대 예컨대 지구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채탄장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으로 의미 부여되는 경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그러나 하이데거도 그 자체를 문제삼지는 않음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다만 채탄장으로만 의미가 부여됨으로써 다른 심오한 의미가 드러날 기회가 사라진다면 문제라고 생각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존재들의 의미는 정말 축소되고 있는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과거에 활용되지 않던 대상들이 점점 활용되고 있다면 그 대상들은 새로운 의미를 얻은 것 아닌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대신 대상이 원래 가지고 있던 신비한 의미들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예컨대 신화는 잊혀짐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.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그러나 이런 의미 상실은 바람직한 것 아닌가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만약 하나의 대상이 여러 용도로 사용된다면 더욱 풍부한 의미를 얻게 되는 것 아닌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여전히 그것이 부품으로서의 의미에 그친다면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하이데거는 원초적 진리에 다가가지 못한다고 생각할 것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.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그러나 하이데거가 말하는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 ‘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근원적인 탈은폐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’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또는 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‘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원초적 진리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’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란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거 기술과 현대 기술은 정말 다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수력발전소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풍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수력발전소가 강을 수압공급자로 탈은폐한다면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br>
              <a:rPr sz="2400"/>
            </a:b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풍차는 공기를 기압공급자로 탈은폐한 것이 아닌가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현대 농부의 경작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거 농부의 경작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과거 농부는 정말 농토에서 무엇을 내놓으라고 하지 않았단 말인가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 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거 기술 역시 대상에 기능적 의미 부여를 했으며 일종의 닦달을 했다고 보는 것이 적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닦달의 주체는 누구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이데거는 닦달의 주체를 애매하게 표현하고 있지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닦달의 주체는 인간일 수밖에 없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간이 닦달의 주체임에도 닦달을 받는 이유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간이 특정한 목표를 위해 시스템을 필요로 할 경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일단 그 시스템이 만들어지고 나면 그 시스템을 계속 작동시키기 위해서 시스템 내에 있는 인간들은 특정한 기능을 하는 부품처럼 작동해야 하기 때문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하이데거의 의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대에 들어서면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대상에 대한 전형적인 이해 방식이 다른 대상의 이해를 위한 표준적 모형을 제공하고 있음을 보여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와 유사하게 막스 베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크 엘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위르겐 하버마스 등은 기술적 문제의 해결을 위한 합리성이 현대 사회의 합리성에 대한 모형을 제공하고 있다는 점 인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합리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적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도구적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)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합리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주어진 목적에 대한 가장 효율적 수단의 추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흔히 수학과 과학과 밀접한 관계가 있다고 여겨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수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목적 관계는 인과 관계와 상호 번역 가능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효율성은 정확한 값으로 평가될 수 있다고 생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목적 자체에 대한 평가는 수행하지 않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목적의 선택 자체는 자의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주관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비합리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목적과 가치에 대해서는 합리적 근거 제시 불가능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f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수학적 합리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적 합리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철학적 합리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현대 사회와 기술적 합리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베버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합리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합리적 원리를 통한 사회의 체계화 및 조직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엘륄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현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생활과 사회의 모든 측면에 대한 기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technique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의 적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예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회공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관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하버마스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생활세계의 식민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간 의사소통 영역에 대한 기술적 접근과 도구적 합리성의 적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마르쿠제의 기술적 합리성 비판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적 합리성만 유의미하고 전통적인 형이상학과 윤리는 무의미하다는 생각은 현대 사회의 이데올로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목적과 가치에 대한 질문을 합리적 탐구와 논의의 영역 밖으로 밀어내는 것은 암묵적인 지배 가치에 대한 비판을 방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본주의와 관료제에 대한 암묵적 정당화 수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하버마스의 기술적 합리성 비판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목적에 대한 효율적인 수단을 다루는 기술적 합리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발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미와 목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규범을 다루는 의사소통적 합리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정치적 발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오늘날 무반성적으로 진행되고 있는 기술적 진보와 사회관료적 발전은 기본적으로 사회적 삶의 재생산과 관련된 본능적 자기보존 목표에 의해 규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능력과의 연관 하에서 관심과 목표에 대한 공적인 정당화를 반성적으로 수행할 때에만 무계획적인 기술적 진보와 사회적 삶 매개 가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하이데거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“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에 대한 논구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본질에 대한 재정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목적을 위한 수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은 올바르지만 참되지 않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은 존재의 숨겨진 진리를 드러내는 한 방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거 기술과 현대 기술의 탈은폐 방식 차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거 기술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밖으로 끌어내어 앞에 내어 높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현대 기술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도발적 요청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닦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Ge-stell)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든 자연과 인간을 준비된 부품으로 드러나도록 주문 요청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누가 도발적으로 닦아세우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물론 인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러나 인간은 비은폐성의 부름에 응답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배후에 숨어 있는 지배의 비합리성은 기술적 합리성의 실현에 의해 소멸되지 않는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오히려 보존되거나 강화되곤 한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것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보편적이고 강제 없는 토론의 원리를 기반으로 형성된 정치적 의사결정에 의해서만 파괴될 수 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”–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버마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적 진보와 사회적 생활세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마르쿠제와 하버마스 모두 기술적 발전이 정치적 해방을 가져올 것이라는 당시 널리 퍼진 낙관적 생각의 오류 지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기술적 합리성 비판에 대한 비판적 검토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마르쿠제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합리화가 문제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해결책은 전통적 형이상학과 윤리의 부활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비현실적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오히려 보수적 해결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하버마스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부족한 합리화가 문제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의사소통적 합리성의 전면적 실현을 통한 토의 민주주의 완성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토론을 통해서만 목적과 가치가 다루어진다는 잘못된 생각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시장에서도 목적과 가치가 다루어짐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물론 시장에서 다루어지는 데에는 한계와 편향이 있음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가치와 목적에 대한 토론과 상호이해의 필요성을 보여주는 반면 합의에 대한 비현실적 기대가 숨어있음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가치의 다양성에 대한 인정 및 존중 필요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위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/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편익 분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개별 프로젝트에 대한 정량적인 평가 방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 평가에 기술적 합리성 개념 적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위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편익은 주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/+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돈으로 환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각 위험과 편익의 가중치는 확률에 의해 부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평가는 오직 결과에 의해서만 이루어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철저한 공리주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간단한 위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/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편익 분석의 예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파스칼의 행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900000" y="3141720"/>
          <a:ext cx="5832720" cy="2663640"/>
        </p:xfrm>
        <a:graphic>
          <a:graphicData uri="http://schemas.openxmlformats.org/drawingml/2006/table">
            <a:tbl>
              <a:tblPr/>
              <a:tblGrid>
                <a:gridCol w="1729080"/>
                <a:gridCol w="1366560"/>
                <a:gridCol w="1279800"/>
                <a:gridCol w="14572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신이 있다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(0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신이 없다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(0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결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신을 믿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신을 믿지 않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-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위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/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편익 분석의 어려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확률값 산정의 어려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위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편익 값 평가의 어려움 및 편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돈으로 간단히 책정되지 않는 항목의 경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인간 생명의 가치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미적 가치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야생 동물의 가치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상업적으로 활용되지 않는 생물종의 가치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단순 합산의 불가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다수의 작은 혜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ut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소수의 큰 위험 사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위험 당사자와 이익 당사자의 불일치 문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위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/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편익 분석 관련 논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위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편익 분석은 주로 프로젝트 정당화용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일반인들의 위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편익 평가는 비합리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일반인들의 대체적인 위험 평가 패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발적 위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강제적 위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생소한 위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gt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익숙한 위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재앙 가능성의 위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gt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분산된 위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불균등한 위험 분포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gt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균등한 분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위험 측정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위험의 수용가능성 판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객관적인 위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편익 분석은 불가능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위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편익 분석은 사회적 편견의 결과물일 뿐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제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대 기술과 과거 기술 사이의 질적인 차이가 존재하는지 입장을 정하여 논하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합리성 이상의 합리성이 존재하는지 자신의 입장을 정하여 논하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위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편익 분석은 기술 프로젝트를 평가하는 수단으로 합리적인지 평가하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우리는 어느 한 지역을 석탄과 광석을 캐내기 위해 도발적으로 굴착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지구는 이제 한낱 채탄장으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대지는 한낱 저장고로 탈은폐될 뿐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농부들이 예전에 경작하던 밭은 그렇지 않았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농부의 일이란 농토에 무엇을 내놓으라고 강요하는 것이 아니라 씨앗을 뿌려 싹이 돋아나는 것을 그 생장력에 내맡기고 그것이 잘 자라도록 보호하는 것이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”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러나 오늘날의 농토 경작은 자연을 닦아세우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전과는 다른 종류의 경작 방법 속으로 흡수되어 버렸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제는 그것도 자연을 도발적으로 닦아세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경작은 이제 기계화된 식품 공업일 뿐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공기는 이제 질소 공급을 강요당하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대지는 광석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광석은 우라늄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우라늄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파괴를 위해서든 평화적 이용을 위해서든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원자력 공급을 강요당하고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채광장에서 채굴된 석탄은 그저 어디에건 놓여 있기 위해서 닦아세워진 것이 아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우리는 석탄을 저장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다시 말해 석탄 속에 축적되어 있는 태양열을 끄집어 내기 위해 그 자리에 놓아두는 것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리고 이 축적된 태양열은 열 제공을 강요당하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또 이 열은 증기를 공급해 그 압력으로 모터를 돌릴 것을 주문받으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로써 하나의 공장이 가동되고 있는 것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활주로에 놓여 있는 여객기는 분명 하나의 대상이 아닌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물론 그렇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우리는 그 기계를 그런 식으로 생각할 수도 있을 것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러나 그 경우 그 기계는 자신이 무엇이며 어떻게 존재하고 있는지를 스스로 은닉하고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것이 운송의 가능성을 확실하게 보장하기 위해 요청받고 있는 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 기계는 활주로에 한낱 부품으로 탈은폐되어 있는 것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 때문에 그 기계 자체는 전체 구조에 있어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즉 모든 제반 구성 요소에 있어 임무 수행 완료의 상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즉 출발 준비의 상태에 있어야 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268280"/>
            <a:ext cx="822960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만일 인간이 그렇게 도발적 요청을 받고 있어 그렇게 주문받고 있다면 인간 자신도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오히려 자연보다도 더 근원적으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부품에 속하는 것이 아닌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력 자원이니 임상 실험용 환자 자원이니 하는 떠도는 이야기는 바로 이 점을 입증하고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숲에서 벤 나무들을 측량하고 있는 산지기는 겉보기에는 그의 할아버지와 동일한 방식으로 똑같은 숲길을 다니지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오늘의 그는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가 알건 모르건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목재 가공 산업에 의해 주문받고 그 일을 하고 있는 것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는 섬유소를 만들어내도록 주문받고 있으며 섬유소는 종이의 수요에 의해 강요되고 종이는 신문이나 읽을거리를 위해 공급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하이데거는 무엇을 보았는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존재의 의미가 종종 인간의 목적의식적 사용을 통해 드러난다는 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은 존재의 숨겨진 진리를 드러내는 한 방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비행기는 목적의식적 사용의 요청 없이는 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신의 존재 의미 은닉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지구는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…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로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지는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…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로서 탈은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거에는 인간의 목적을 위해 사용되지 않았던 대상들이 현대로 올수록 점점 더 많이 인간의 목적을 위해 활용되고 있다는 점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석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우라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현대의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기술적 인공물들은 언제나 그것을 포함한 시스템 내에서 기술로 작동한다는 점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채굴된 석탄은 공장 가동 시스템의 일부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비행기는 운송 시스템의 부품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현대에는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인간도 시스템의 일부로 작동한다는 점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인간인 목수마저도 목재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종이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언론 생산 시스템의 부품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현대에는 자연과 인간의 의미가 기술 시스템 내에서 수행하는 알려진 기능 외에는 부각되지 않는다는 점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지구는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한낱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’ 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채탄장으로 탈은폐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비행기는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운송 시스템의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) ‘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한낱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’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부품으로 탈은폐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6:15:59Z</dcterms:created>
  <dc:creator>zolaist</dc:creator>
  <dc:description/>
  <dc:language>en-US</dc:language>
  <cp:lastModifiedBy>zolaist</cp:lastModifiedBy>
  <dcterms:modified xsi:type="dcterms:W3CDTF">2010-10-29T02:55:44Z</dcterms:modified>
  <cp:revision>72</cp:revision>
  <dc:subject/>
  <dc:title>기술적 합리성은  인간과 환경을 닦달하는가?</dc:title>
</cp:coreProperties>
</file>